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404-4496-4825-A758-DAB76EBE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3D2D-DC11-4BC1-8370-2004DC64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6D8-8E8F-43BA-95AE-30EEE2DA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2C9-89FF-4187-9756-E183EC0A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C62A-79B5-41FD-9554-E4D43275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3198-BDEA-4682-A0F3-943A1E59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3BF1-DDBD-4FD4-AD77-872AA065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6A24-B6FC-4008-978E-D2078E83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5779-CF1D-4408-9B80-65734EEA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9723-66B1-4448-9DE8-6CE8482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1570-0722-4CA1-A6DE-DA9763E7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858-AF71-4231-8EA2-17752202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85F5-B0C8-40DE-BB9D-46B3CBD3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9584-3E58-4B3C-897D-144DD157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05F7-4CF3-4C2E-8FFB-A079B094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D2D4-092A-4AAE-805E-BF5E862B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028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90920" y="160020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0964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0028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90920" y="3948480"/>
            <a:ext cx="2562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E7E7-B12D-469C-B5A3-B8102756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EEF-8706-41BF-A601-E7A9B376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ED7-BBC8-4401-BE19-0EDB4041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AF3-22BB-4A19-ACB5-BE2E2B1D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71600" y="456840"/>
            <a:ext cx="7315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EC6-B531-47B5-9C84-E0ED5B22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19B-9A1C-45BC-891F-588BEAC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87360" y="394848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C85-019E-40E3-B1D5-6F784BB8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455760"/>
            <a:ext cx="73152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87360" y="1600200"/>
            <a:ext cx="3883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9640" y="3948480"/>
            <a:ext cx="795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F6D-0A2F-40D7-93FE-75585323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1280"/>
            <a:ext cx="647640" cy="6713640"/>
            <a:chOff x="0" y="71280"/>
            <a:chExt cx="647640" cy="6713640"/>
          </a:xfrm>
        </p:grpSpPr>
        <p:sp>
          <p:nvSpPr>
            <p:cNvPr id="1" name=""/>
            <p:cNvSpPr/>
            <p:nvPr/>
          </p:nvSpPr>
          <p:spPr>
            <a:xfrm>
              <a:off x="0" y="667548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73272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78492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653256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45624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60384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582300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78016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8496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18480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605628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35148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85612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594216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625644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622296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557532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563256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568476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543240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35608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50404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472284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468000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528480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508464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495612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525132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75632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0" y="484200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0" y="515628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0" y="512280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49748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36896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425448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0" y="456876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453564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05756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0" y="411480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0" y="416736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391464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383868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8628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376704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356724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73392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63852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60504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38472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4160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9416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4180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16548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31308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53224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8904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09420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89404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76552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06072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256536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265104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296532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93220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228456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234144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239400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14164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21292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161604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157320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197820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184932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64952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73520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204948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201600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36836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42560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47780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122544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29708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14300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2888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83196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88884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94140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89040"/>
              <a:ext cx="64764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1272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76032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54144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796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12920"/>
              <a:ext cx="64764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14480"/>
              <a:ext cx="64764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7128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760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233280"/>
              <a:ext cx="64764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24000"/>
              <a:ext cx="64764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35040" y="328680"/>
            <a:ext cx="8280360" cy="966600"/>
            <a:chOff x="635040" y="328680"/>
            <a:chExt cx="8280360" cy="966600"/>
          </a:xfrm>
        </p:grpSpPr>
        <p:sp>
          <p:nvSpPr>
            <p:cNvPr id="100" name=""/>
            <p:cNvSpPr/>
            <p:nvPr/>
          </p:nvSpPr>
          <p:spPr>
            <a:xfrm>
              <a:off x="884160" y="328680"/>
              <a:ext cx="496800" cy="787320"/>
            </a:xfrm>
            <a:prstGeom prst="rect">
              <a:avLst/>
            </a:prstGeom>
            <a:solidFill>
              <a:srgbClr val="d9f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040" y="399960"/>
              <a:ext cx="5662440" cy="428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00800" y="1111320"/>
              <a:ext cx="1474920" cy="183960"/>
            </a:xfrm>
            <a:prstGeom prst="rect">
              <a:avLst/>
            </a:prstGeom>
            <a:solidFill>
              <a:srgbClr val="d9ff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52960" y="1195560"/>
              <a:ext cx="5662440" cy="41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FAB1-BAAB-40B3-9819-4C6D2FE2358F}" type="datetime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FF71-E148-4231-9722-8CB459A0E355}" type="slidenum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98720" y="784080"/>
            <a:ext cx="7580160" cy="2111400"/>
          </a:xfrm>
          <a:prstGeom prst="rect">
            <a:avLst/>
          </a:prstGeom>
          <a:solidFill>
            <a:srgbClr val="d9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68400"/>
            <a:ext cx="990720" cy="6713280"/>
            <a:chOff x="0" y="68400"/>
            <a:chExt cx="990720" cy="6713280"/>
          </a:xfrm>
        </p:grpSpPr>
        <p:sp>
          <p:nvSpPr>
            <p:cNvPr id="147" name=""/>
            <p:cNvSpPr/>
            <p:nvPr/>
          </p:nvSpPr>
          <p:spPr>
            <a:xfrm>
              <a:off x="0" y="667224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672948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678168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652932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45336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660096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581976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577692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38172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18156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605304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634824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585324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593892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25320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621972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557208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62932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568152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42916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5320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50080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71960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67676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528156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08176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495288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524844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475308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0" y="483876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515304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511956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449424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436572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425124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56552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53240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05432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11156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416412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391176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383544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398304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376380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356400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373068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363528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360216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338148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343836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49092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323856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316224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30984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252900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48616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309096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289080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276228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305748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256212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264780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296244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292896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228132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233856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239076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213840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220968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161280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156996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97496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84644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164628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73196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04624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201312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36512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142236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47492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122220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129384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0" y="113976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102564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82872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88596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93816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85800"/>
              <a:ext cx="990720" cy="0"/>
            </a:xfrm>
            <a:prstGeom prst="line">
              <a:avLst/>
            </a:prstGeom>
            <a:ln w="2844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60948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75708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53820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50472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409680"/>
              <a:ext cx="990720" cy="0"/>
            </a:xfrm>
            <a:prstGeom prst="line">
              <a:avLst/>
            </a:prstGeom>
            <a:ln w="1908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111240"/>
              <a:ext cx="990720" cy="0"/>
            </a:xfrm>
            <a:prstGeom prst="line">
              <a:avLst/>
            </a:prstGeom>
            <a:ln w="93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6840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0" y="14436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230040"/>
              <a:ext cx="990720" cy="0"/>
            </a:xfrm>
            <a:prstGeom prst="line">
              <a:avLst/>
            </a:prstGeom>
            <a:ln w="1260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320760"/>
              <a:ext cx="990720" cy="0"/>
            </a:xfrm>
            <a:prstGeom prst="line">
              <a:avLst/>
            </a:prstGeom>
            <a:ln w="38160">
              <a:solidFill>
                <a:srgbClr val="d9f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E712-8AAF-4C4B-9F23-28601623C074}" type="datetime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A638-E04F-4CB9-8321-1AD18357C0F4}" type="slidenum">
              <a:rPr b="0" lang="zh-TW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title"/>
          </p:nvPr>
        </p:nvSpPr>
        <p:spPr>
          <a:xfrm>
            <a:off x="1219320" y="1371240"/>
            <a:ext cx="7380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743200"/>
            <a:ext cx="5662440" cy="777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51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1371240"/>
            <a:ext cx="73800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 Survey of Scene Change Detec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523880" y="3428640"/>
            <a:ext cx="6662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The Final Report of Advanced Video Cod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中正大學資訊工程研究所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碩士班二年級  </a:t>
            </a: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690410085  </a:t>
            </a: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張伯任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F7E1-1A2C-4003-B034-422D70C23A5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2AC360D-1C5C-4EC8-BA7B-95E64A4993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Feature-based approa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Assump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New intensity edges appear </a:t>
            </a:r>
            <a:r>
              <a:rPr b="0" lang="zh-TW" sz="2400" spc="-1" strike="noStrike">
                <a:solidFill>
                  <a:srgbClr val="800000"/>
                </a:solidFill>
                <a:latin typeface="Times New Roman"/>
              </a:rPr>
              <a:t>far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 from the locations of old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An abrupt scene change is declar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By counting the number of exiting edge pixe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Limita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Process requires edge detecti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It’s computationally very costl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The edge detection method does not handle rapid changes in overall scene brightness or scenes with high contrast level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565-B39A-4CF3-B05C-51C452674FB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499EB-6C1A-439A-ADFB-8B09B75CB7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Feature-based approa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dge detec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P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610000" cy="4842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3148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1295280" y="5029200"/>
            <a:ext cx="4191120" cy="96048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143000" y="4068720"/>
            <a:ext cx="4267080" cy="87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297-1329-428D-B96E-ED4772426BB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DBC4A-115B-468B-B47C-201B480A6B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ncompressed-domai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radual transi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win-comparison metho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tistical feature-based metho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24B-54A9-4421-B087-F5DE4AF92A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C61EA-6630-4D33-94D6-669C1E170C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Twin-comparison metho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is takes into account the cumulative differences between the fram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 requires two cut-off threshol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higher one is for detecting abrupt transi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lower one is for gradual  transi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0DA-B89B-4321-9796-F99EF58066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9265F-39BC-4273-9A9B-91ED75D0D0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Statistical feature-based metho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Use mean and varianc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zh-TW" sz="20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(x,y) is the resultant video sig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1295280" y="3809880"/>
                <a:ext cx="49532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　　　　　　　　　　　　　　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F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F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&lt;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828800" y="2133720"/>
                <a:ext cx="27432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E12-10DE-4C7A-905A-16A7CD29AAE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B9E26-D086-40F8-9CC9-1AB775C333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atistical feature-based metho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ean (m) , variance (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295280" y="2819520"/>
                <a:ext cx="424188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　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　　　　　　　　　　　　　　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&lt;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F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F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333440" y="4191120"/>
                <a:ext cx="237492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　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　　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&lt;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W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　　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4013280" y="4648320"/>
                <a:ext cx="4876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ξ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ξ</m:t>
                        </m:r>
                      </m:e>
                    </m:d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ξ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　　</m:t>
                    </m:r>
                    <m:r>
                      <m:t xml:space="preserve">ξ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g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80988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DAF-745B-42C9-8A4D-DE42BBAFE7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792FE-DA05-4FC1-9D58-0781D4C283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atistical feature-based metho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d-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tect a frame with zero variance followed by a continuous sequence during which the test ratio is lower than the dissolve threshold 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de-ou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tect a continuous sequence during which the test ratio is lower than T,followed by a frame with zero varianc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issolv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tect a continuous sequence during which the test ratio is lower than 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5EC6-266F-48BC-8535-8687C6B7D4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3E48D-C789-4033-A6A8-BCCF6662F0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Mean of lum. for fading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>
            <a:lum contrast="30000"/>
          </a:blip>
          <a:srcRect l="1100" t="1725" r="1100" b="1791"/>
          <a:stretch/>
        </p:blipFill>
        <p:spPr>
          <a:xfrm>
            <a:off x="914400" y="1752480"/>
            <a:ext cx="678168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5ED-01D4-4820-8B37-F2A88240BE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225A7-E539-4281-91C4-967C53E1F3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Variance of lum. for fad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>
            <a:lum contrast="30000"/>
          </a:blip>
          <a:srcRect l="2176" t="1711" r="1084" b="2175"/>
          <a:stretch/>
        </p:blipFill>
        <p:spPr>
          <a:xfrm>
            <a:off x="990720" y="1752480"/>
            <a:ext cx="678168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11D-4775-40C6-892A-0E05E07F1A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6CA2E-E44A-4483-B235-1137B4DC67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bsolute value of the change in rat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>
            <a:lum contrast="30000"/>
          </a:blip>
          <a:srcRect l="1086" t="1717" r="1086" b="2036"/>
          <a:stretch/>
        </p:blipFill>
        <p:spPr>
          <a:xfrm>
            <a:off x="914400" y="17524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725-1F2E-4979-B90D-18399CAC01D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14F7C-6C1C-4DDE-9731-4DD62BDEF9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compressed-doma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dden (abrupt) transi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adual transi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ressed-domai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dden (abrupt) transi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adual transi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xperi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5F0-F808-489B-80AD-0243AC39FE1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2D66E-AA11-40CC-B0DB-BA54E40E26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Mean of lum. for dissolv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>
            <a:lum contrast="30000"/>
          </a:blip>
          <a:srcRect l="1100" t="1731" r="1100" b="1441"/>
          <a:stretch/>
        </p:blipFill>
        <p:spPr>
          <a:xfrm>
            <a:off x="914400" y="1752480"/>
            <a:ext cx="678168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227-6557-4176-89B7-0795A24394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525B9-4C89-48A1-8060-B2006C4C29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Variance of lum. for dissolv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>
            <a:lum contrast="36000"/>
          </a:blip>
          <a:srcRect l="1084" t="1717" r="1084" b="1824"/>
          <a:stretch/>
        </p:blipFill>
        <p:spPr>
          <a:xfrm>
            <a:off x="914400" y="1752480"/>
            <a:ext cx="685800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61F-685F-4A2C-ADBC-33C1BAFD23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8E1BD-0876-4C02-9F30-A28FCED037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bsolute value of the change in rat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>
            <a:lum contrast="30000"/>
          </a:blip>
          <a:srcRect l="1098" t="1731" r="1098" b="2961"/>
          <a:stretch/>
        </p:blipFill>
        <p:spPr>
          <a:xfrm>
            <a:off x="914400" y="1752480"/>
            <a:ext cx="6781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29A-5417-4940-927B-BF764A7706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16E5C-0DE0-4007-9D0B-93CF1887E5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view of MPE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haracteristic of DC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rame structur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09720" y="4716720"/>
            <a:ext cx="7629480" cy="1385280"/>
            <a:chOff x="909720" y="4716720"/>
            <a:chExt cx="7629480" cy="1385280"/>
          </a:xfrm>
        </p:grpSpPr>
        <p:grpSp>
          <p:nvGrpSpPr>
            <p:cNvPr id="359" name=""/>
            <p:cNvGrpSpPr/>
            <p:nvPr/>
          </p:nvGrpSpPr>
          <p:grpSpPr>
            <a:xfrm>
              <a:off x="909720" y="4716720"/>
              <a:ext cx="1919160" cy="1385280"/>
              <a:chOff x="909720" y="4716720"/>
              <a:chExt cx="1919160" cy="1385280"/>
            </a:xfrm>
          </p:grpSpPr>
          <p:sp>
            <p:nvSpPr>
              <p:cNvPr id="360" name=""/>
              <p:cNvSpPr/>
              <p:nvPr/>
            </p:nvSpPr>
            <p:spPr>
              <a:xfrm flipV="1" rot="5376000">
                <a:off x="118332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cccc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996840" y="52610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96840" y="55656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1290600" y="4716720"/>
              <a:ext cx="1919160" cy="1385280"/>
              <a:chOff x="1290600" y="4716720"/>
              <a:chExt cx="1919160" cy="1385280"/>
            </a:xfrm>
          </p:grpSpPr>
          <p:sp>
            <p:nvSpPr>
              <p:cNvPr id="364" name=""/>
              <p:cNvSpPr/>
              <p:nvPr/>
            </p:nvSpPr>
            <p:spPr>
              <a:xfrm flipV="1" rot="5376000">
                <a:off x="156420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9999ff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7808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7808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1747800" y="4716720"/>
              <a:ext cx="1919160" cy="1385280"/>
              <a:chOff x="1747800" y="4716720"/>
              <a:chExt cx="1919160" cy="1385280"/>
            </a:xfrm>
          </p:grpSpPr>
          <p:sp>
            <p:nvSpPr>
              <p:cNvPr id="368" name=""/>
              <p:cNvSpPr/>
              <p:nvPr/>
            </p:nvSpPr>
            <p:spPr>
              <a:xfrm flipV="1" rot="5376000">
                <a:off x="202140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9999ff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83528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83528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200320" y="4716720"/>
              <a:ext cx="1919160" cy="1385280"/>
              <a:chOff x="2200320" y="4716720"/>
              <a:chExt cx="1919160" cy="1385280"/>
            </a:xfrm>
          </p:grpSpPr>
          <p:sp>
            <p:nvSpPr>
              <p:cNvPr id="372" name=""/>
              <p:cNvSpPr/>
              <p:nvPr/>
            </p:nvSpPr>
            <p:spPr>
              <a:xfrm flipV="1" rot="5376000">
                <a:off x="247392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ff99cc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28780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28780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2662200" y="4716720"/>
              <a:ext cx="1919160" cy="1385280"/>
              <a:chOff x="2662200" y="4716720"/>
              <a:chExt cx="1919160" cy="1385280"/>
            </a:xfrm>
          </p:grpSpPr>
          <p:sp>
            <p:nvSpPr>
              <p:cNvPr id="376" name=""/>
              <p:cNvSpPr/>
              <p:nvPr/>
            </p:nvSpPr>
            <p:spPr>
              <a:xfrm flipV="1" rot="5376000">
                <a:off x="293580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9999ff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74968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74968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3119400" y="4716720"/>
              <a:ext cx="1919160" cy="1385280"/>
              <a:chOff x="3119400" y="4716720"/>
              <a:chExt cx="1919160" cy="1385280"/>
            </a:xfrm>
          </p:grpSpPr>
          <p:sp>
            <p:nvSpPr>
              <p:cNvPr id="380" name=""/>
              <p:cNvSpPr/>
              <p:nvPr/>
            </p:nvSpPr>
            <p:spPr>
              <a:xfrm flipV="1" rot="5376000">
                <a:off x="339300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9999ff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0688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0688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576600" y="4716720"/>
              <a:ext cx="1919160" cy="1385280"/>
              <a:chOff x="3576600" y="4716720"/>
              <a:chExt cx="1919160" cy="1385280"/>
            </a:xfrm>
          </p:grpSpPr>
          <p:sp>
            <p:nvSpPr>
              <p:cNvPr id="384" name=""/>
              <p:cNvSpPr/>
              <p:nvPr/>
            </p:nvSpPr>
            <p:spPr>
              <a:xfrm flipV="1" rot="5376000">
                <a:off x="385020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ff99cc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66408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66408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033800" y="4716720"/>
              <a:ext cx="1919160" cy="1385280"/>
              <a:chOff x="4033800" y="4716720"/>
              <a:chExt cx="1919160" cy="1385280"/>
            </a:xfrm>
          </p:grpSpPr>
          <p:sp>
            <p:nvSpPr>
              <p:cNvPr id="388" name=""/>
              <p:cNvSpPr/>
              <p:nvPr/>
            </p:nvSpPr>
            <p:spPr>
              <a:xfrm flipV="1" rot="5376000">
                <a:off x="430740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9999ff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2128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12128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4491000" y="4716720"/>
              <a:ext cx="1919160" cy="1385280"/>
              <a:chOff x="4491000" y="4716720"/>
              <a:chExt cx="1919160" cy="1385280"/>
            </a:xfrm>
          </p:grpSpPr>
          <p:sp>
            <p:nvSpPr>
              <p:cNvPr id="392" name=""/>
              <p:cNvSpPr/>
              <p:nvPr/>
            </p:nvSpPr>
            <p:spPr>
              <a:xfrm flipV="1" rot="5376000">
                <a:off x="476460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9999ff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7848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57848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019840" y="4716720"/>
              <a:ext cx="1919160" cy="1385280"/>
              <a:chOff x="5019840" y="4716720"/>
              <a:chExt cx="1919160" cy="1385280"/>
            </a:xfrm>
          </p:grpSpPr>
          <p:sp>
            <p:nvSpPr>
              <p:cNvPr id="396" name=""/>
              <p:cNvSpPr/>
              <p:nvPr/>
            </p:nvSpPr>
            <p:spPr>
              <a:xfrm flipV="1" rot="5376000">
                <a:off x="529344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ff99cc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10732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10732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5558040" y="4716720"/>
              <a:ext cx="1919160" cy="1385280"/>
              <a:chOff x="5558040" y="4716720"/>
              <a:chExt cx="1919160" cy="1385280"/>
            </a:xfrm>
          </p:grpSpPr>
          <p:sp>
            <p:nvSpPr>
              <p:cNvPr id="400" name=""/>
              <p:cNvSpPr/>
              <p:nvPr/>
            </p:nvSpPr>
            <p:spPr>
              <a:xfrm flipV="1" rot="5376000">
                <a:off x="583164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9999ff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4552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64552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015240" y="4716720"/>
              <a:ext cx="1919160" cy="1385280"/>
              <a:chOff x="6015240" y="4716720"/>
              <a:chExt cx="1919160" cy="1385280"/>
            </a:xfrm>
          </p:grpSpPr>
          <p:sp>
            <p:nvSpPr>
              <p:cNvPr id="404" name=""/>
              <p:cNvSpPr/>
              <p:nvPr/>
            </p:nvSpPr>
            <p:spPr>
              <a:xfrm flipV="1" rot="5376000">
                <a:off x="628884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9999ff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02720" y="5260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02720" y="55656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620040" y="4716720"/>
              <a:ext cx="1919160" cy="1385280"/>
              <a:chOff x="6620040" y="4716720"/>
              <a:chExt cx="1919160" cy="1385280"/>
            </a:xfrm>
          </p:grpSpPr>
          <p:sp>
            <p:nvSpPr>
              <p:cNvPr id="408" name=""/>
              <p:cNvSpPr/>
              <p:nvPr/>
            </p:nvSpPr>
            <p:spPr>
              <a:xfrm flipV="1" rot="5376000">
                <a:off x="6893640" y="4454640"/>
                <a:ext cx="1371600" cy="1909440"/>
              </a:xfrm>
              <a:prstGeom prst="parallelogram">
                <a:avLst>
                  <a:gd name="adj" fmla="val 35972"/>
                </a:avLst>
              </a:prstGeom>
              <a:solidFill>
                <a:srgbClr val="cccc99"/>
              </a:solidFill>
              <a:ln cap="sq"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707160" y="52610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07160" y="556560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66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6172200" y="2133720"/>
            <a:ext cx="2149200" cy="1847520"/>
            <a:chOff x="6172200" y="2133720"/>
            <a:chExt cx="2149200" cy="1847520"/>
          </a:xfrm>
        </p:grpSpPr>
        <p:sp>
          <p:nvSpPr>
            <p:cNvPr id="412" name=""/>
            <p:cNvSpPr/>
            <p:nvPr/>
          </p:nvSpPr>
          <p:spPr>
            <a:xfrm>
              <a:off x="6173280" y="2133720"/>
              <a:ext cx="2134080" cy="182628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73280" y="2133720"/>
              <a:ext cx="515160" cy="43812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D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23720" y="2157840"/>
              <a:ext cx="1597680" cy="779400"/>
            </a:xfrm>
            <a:custGeom>
              <a:avLst/>
              <a:gdLst/>
              <a:ahLst/>
              <a:rect l="l" t="t" r="r" b="b"/>
              <a:pathLst>
                <a:path w="1042" h="512">
                  <a:moveTo>
                    <a:pt x="0" y="0"/>
                  </a:moveTo>
                  <a:cubicBezTo>
                    <a:pt x="30" y="44"/>
                    <a:pt x="86" y="187"/>
                    <a:pt x="183" y="265"/>
                  </a:cubicBezTo>
                  <a:cubicBezTo>
                    <a:pt x="280" y="343"/>
                    <a:pt x="442" y="425"/>
                    <a:pt x="585" y="466"/>
                  </a:cubicBezTo>
                  <a:cubicBezTo>
                    <a:pt x="728" y="507"/>
                    <a:pt x="947" y="502"/>
                    <a:pt x="1042" y="512"/>
                  </a:cubicBezTo>
                </a:path>
              </a:pathLst>
            </a:custGeom>
            <a:noFill/>
            <a:ln cap="sq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72200" y="2573280"/>
              <a:ext cx="709560" cy="1407960"/>
            </a:xfrm>
            <a:custGeom>
              <a:avLst/>
              <a:gdLst/>
              <a:ahLst/>
              <a:rect l="l" t="t" r="r" b="b"/>
              <a:pathLst>
                <a:path w="463" h="925">
                  <a:moveTo>
                    <a:pt x="460" y="925"/>
                  </a:moveTo>
                  <a:cubicBezTo>
                    <a:pt x="456" y="863"/>
                    <a:pt x="463" y="675"/>
                    <a:pt x="433" y="550"/>
                  </a:cubicBezTo>
                  <a:cubicBezTo>
                    <a:pt x="403" y="425"/>
                    <a:pt x="350" y="267"/>
                    <a:pt x="278" y="175"/>
                  </a:cubicBezTo>
                  <a:cubicBezTo>
                    <a:pt x="206" y="83"/>
                    <a:pt x="58" y="36"/>
                    <a:pt x="0" y="0"/>
                  </a:cubicBezTo>
                </a:path>
              </a:pathLst>
            </a:custGeom>
            <a:noFill/>
            <a:ln cap="sq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78840" y="220644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horizonta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5945040" y="327492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vertica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30160" y="3345120"/>
              <a:ext cx="102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diagona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733920" y="2133720"/>
            <a:ext cx="2133360" cy="1828440"/>
            <a:chOff x="3733920" y="2133720"/>
            <a:chExt cx="2133360" cy="1828440"/>
          </a:xfrm>
        </p:grpSpPr>
        <p:sp>
          <p:nvSpPr>
            <p:cNvPr id="420" name=""/>
            <p:cNvSpPr/>
            <p:nvPr/>
          </p:nvSpPr>
          <p:spPr>
            <a:xfrm>
              <a:off x="3733920" y="2136600"/>
              <a:ext cx="2133360" cy="1825560"/>
            </a:xfrm>
            <a:prstGeom prst="rect">
              <a:avLst/>
            </a:prstGeom>
            <a:solidFill>
              <a:srgbClr val="dddddd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33920" y="2136600"/>
              <a:ext cx="514800" cy="43812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DC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47600" y="2133720"/>
              <a:ext cx="1087920" cy="1084680"/>
            </a:xfrm>
            <a:custGeom>
              <a:avLst/>
              <a:gdLst/>
              <a:ahLst/>
              <a:rect l="l" t="t" r="r" b="b"/>
              <a:pathLst>
                <a:path w="710" h="713">
                  <a:moveTo>
                    <a:pt x="0" y="713"/>
                  </a:moveTo>
                  <a:cubicBezTo>
                    <a:pt x="61" y="702"/>
                    <a:pt x="256" y="702"/>
                    <a:pt x="366" y="649"/>
                  </a:cubicBezTo>
                  <a:cubicBezTo>
                    <a:pt x="476" y="596"/>
                    <a:pt x="606" y="501"/>
                    <a:pt x="658" y="393"/>
                  </a:cubicBezTo>
                  <a:cubicBezTo>
                    <a:pt x="710" y="285"/>
                    <a:pt x="673" y="82"/>
                    <a:pt x="677" y="0"/>
                  </a:cubicBezTo>
                </a:path>
              </a:pathLst>
            </a:custGeom>
            <a:noFill/>
            <a:ln cap="sq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761640" y="2160720"/>
              <a:ext cx="1723680" cy="1612800"/>
            </a:xfrm>
            <a:custGeom>
              <a:avLst/>
              <a:gdLst/>
              <a:ahLst/>
              <a:rect l="l" t="t" r="r" b="b"/>
              <a:pathLst>
                <a:path w="1125" h="1060">
                  <a:moveTo>
                    <a:pt x="0" y="1033"/>
                  </a:moveTo>
                  <a:cubicBezTo>
                    <a:pt x="102" y="1024"/>
                    <a:pt x="439" y="1060"/>
                    <a:pt x="613" y="978"/>
                  </a:cubicBezTo>
                  <a:cubicBezTo>
                    <a:pt x="787" y="896"/>
                    <a:pt x="961" y="702"/>
                    <a:pt x="1043" y="539"/>
                  </a:cubicBezTo>
                  <a:cubicBezTo>
                    <a:pt x="1125" y="376"/>
                    <a:pt x="1094" y="112"/>
                    <a:pt x="1107" y="0"/>
                  </a:cubicBezTo>
                </a:path>
              </a:pathLst>
            </a:custGeom>
            <a:noFill/>
            <a:ln cap="sq" w="2556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54240" y="2647800"/>
              <a:ext cx="66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low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7640" y="3464640"/>
              <a:ext cx="66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620D-3A7C-4D90-803E-834CBBE25A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F83B5-F4DB-4F39-A00D-C30A06B891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mpressed-domai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dden(abrupt)transi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C-value appro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efficient-based algorith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otion-based algorith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CBE-D54D-4029-90D9-CC5FF10127E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CF316-A227-4067-B710-26DEE94FE6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DC-Value approa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DC image for pixel-based F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It adds Sliding-windows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8136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581640" cy="21621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15756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3962160" cy="109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850-72A3-4C60-A04F-B4E2810D598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E2854-A42F-4372-93F5-7B8E82AE60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Coefficient-based approa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A subset of blocks is chose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The blocks are chosen from n connected regions in each fr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Take </a:t>
            </a:r>
            <a:r>
              <a:rPr b="0" lang="zh-TW" sz="2800" spc="-1" strike="noStrike">
                <a:solidFill>
                  <a:srgbClr val="800000"/>
                </a:solidFill>
                <a:latin typeface="Times New Roman"/>
              </a:rPr>
              <a:t>AC-coefficients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(c) as </a:t>
            </a:r>
            <a:r>
              <a:rPr b="0" i="1" lang="zh-TW" sz="2800" spc="-1" strike="noStrike">
                <a:solidFill>
                  <a:srgbClr val="003366"/>
                </a:solidFill>
                <a:latin typeface="Times New Roman"/>
              </a:rPr>
              <a:t>V</a:t>
            </a:r>
            <a:r>
              <a:rPr b="0" i="1" lang="zh-TW" sz="18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={c1,c2,c3…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Find the difference between two fram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A transition is detected when 1-|W| &gt; 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2362320" y="4038480"/>
                <a:ext cx="152388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304-BF75-4487-BD2A-22FBFD2427E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3C10E-5123-448B-8A47-8269C3B756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efficient-based approa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peaks 1, 3, 7, 9, 11, and 1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240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1447920" y="2190600"/>
            <a:ext cx="6476760" cy="357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F60-3879-4527-881A-B05E2660D7F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5E5E7-770B-4C64-965F-11DE343C08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tion-based approach 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scene cut is detected based on the ratio of backward and forward motion vector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en a scene change occurs at a  P-frame , the P-frame has only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forwar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V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nce I-frame is intra-coded,without MV,we use DCT-coefficients for detecting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0AB-F117-44B4-A82B-E9865C34A0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F2EDC-E898-4081-A25D-44FED9DD6F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tion-based approach 2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B-fr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Forward , backward , interpolated MB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00000"/>
                </a:solidFill>
                <a:latin typeface="Times New Roman"/>
              </a:rPr>
              <a:t>Interpolated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 MB measures the strength of correlated between the previous and next I/P-fra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zh-TW" sz="1400" spc="-1" strike="noStrike">
                <a:solidFill>
                  <a:srgbClr val="003366"/>
                </a:solidFill>
                <a:latin typeface="Times New Roman"/>
              </a:rPr>
              <a:t>FB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 , the number of interpolated Mb for a given B-fra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If  </a:t>
            </a:r>
            <a:r>
              <a:rPr b="0" lang="zh-TW" sz="28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0" lang="zh-TW" sz="1600" spc="-1" strike="noStrike">
                <a:solidFill>
                  <a:srgbClr val="800000"/>
                </a:solidFill>
                <a:latin typeface="Times New Roman"/>
              </a:rPr>
              <a:t>FB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for a given first B-frame is </a:t>
            </a:r>
            <a:r>
              <a:rPr b="0" lang="zh-TW" sz="2800" spc="-1" strike="noStrike">
                <a:solidFill>
                  <a:srgbClr val="800000"/>
                </a:solidFill>
                <a:latin typeface="Times New Roman"/>
              </a:rPr>
              <a:t>high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There is a strong correlatio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It’s </a:t>
            </a:r>
            <a:r>
              <a:rPr b="0" lang="zh-TW" sz="2400" spc="-1" strike="noStrike">
                <a:solidFill>
                  <a:srgbClr val="800000"/>
                </a:solidFill>
                <a:latin typeface="Times New Roman"/>
              </a:rPr>
              <a:t>not possible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</a:rPr>
              <a:t> for an abrupt scene change to occu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How is N</a:t>
            </a:r>
            <a:r>
              <a:rPr b="0" lang="zh-TW" sz="1600" spc="-1" strike="noStrike">
                <a:solidFill>
                  <a:srgbClr val="003366"/>
                </a:solidFill>
                <a:latin typeface="Times New Roman"/>
              </a:rPr>
              <a:t>FB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 below a certain threshold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18F-C3EA-4A97-A6D4-6152C78188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FB0A74-03DE-4D39-99EB-F4EF38085D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cene Change Dete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ideo indexing,video shot,video segment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lassify by frame chang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udden transi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adual transition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ade-in,fade-out,dissolve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0528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5800" y="4800600"/>
                <a:ext cx="47242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　　　　　　　　　　　　　　　　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L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F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F</m:t>
                                    </m:r>
                                  </m:den>
                                </m:f>
                              </m:e>
                            </m:d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　　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269064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5381640" y="4581360"/>
            <a:ext cx="3762360" cy="159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0B4-927E-4115-90F3-27341A52B46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842520-ACC0-4B3C-9C1B-F8D5E98442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tion-based approach 2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1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the number of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backwar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B for the first B-frame ; 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the number of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backward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MB for the first B-frame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1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high         scene change occurs on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B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1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low          check oth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high          scene change occurs on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f 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low           scene change occurs on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next I/P-fr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31240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35812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52680" y="41148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52680" y="4648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CBF-CDB1-4C56-B006-36ADD00CA4B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5BB9F-0B2C-4BB8-8846-071C205AE9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tion-based approach 2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05120" y="1676520"/>
            <a:ext cx="6655320" cy="4571640"/>
            <a:chOff x="1905120" y="1676520"/>
            <a:chExt cx="6655320" cy="4571640"/>
          </a:xfrm>
        </p:grpSpPr>
        <p:sp>
          <p:nvSpPr>
            <p:cNvPr id="453" name=""/>
            <p:cNvSpPr/>
            <p:nvPr/>
          </p:nvSpPr>
          <p:spPr>
            <a:xfrm>
              <a:off x="2196360" y="1676520"/>
              <a:ext cx="1238040" cy="449640"/>
            </a:xfrm>
            <a:prstGeom prst="roundRect">
              <a:avLst>
                <a:gd name="adj" fmla="val 50000"/>
              </a:avLst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Star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30440" y="1676520"/>
              <a:ext cx="1165320" cy="449640"/>
            </a:xfrm>
            <a:prstGeom prst="roundRect">
              <a:avLst>
                <a:gd name="adj" fmla="val 50000"/>
              </a:avLst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05120" y="2426040"/>
              <a:ext cx="1821240" cy="59940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Identify first B frame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And set t=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05120" y="3325320"/>
              <a:ext cx="1311120" cy="1049040"/>
            </a:xfrm>
            <a:prstGeom prst="flowChartDecision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r>
                <a:rPr b="0" lang="en-US" sz="1000" spc="-1" strike="noStrike">
                  <a:solidFill>
                    <a:srgbClr val="003366"/>
                  </a:solidFill>
                  <a:latin typeface="Times New Roman"/>
                </a:rPr>
                <a:t>FB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&lt;N*T</a:t>
              </a:r>
              <a:r>
                <a:rPr b="0" lang="en-US" sz="1000" spc="-1" strike="noStrike">
                  <a:solidFill>
                    <a:srgbClr val="003366"/>
                  </a:solidFill>
                  <a:latin typeface="Times New Roman"/>
                </a:rPr>
                <a:t>FB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51920" y="3924720"/>
              <a:ext cx="1311120" cy="1049040"/>
            </a:xfrm>
            <a:prstGeom prst="flowChartDecision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r>
                <a:rPr b="0" lang="en-US" sz="1000" spc="-1" strike="noStrike">
                  <a:solidFill>
                    <a:srgbClr val="003366"/>
                  </a:solidFill>
                  <a:latin typeface="Times New Roman"/>
                </a:rPr>
                <a:t>B1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&lt;N*T</a:t>
              </a:r>
              <a:r>
                <a:rPr b="0" lang="en-US" sz="10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26360" y="4749120"/>
              <a:ext cx="1311120" cy="1049400"/>
            </a:xfrm>
            <a:prstGeom prst="flowChartDecision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r>
                <a:rPr b="0" lang="en-US" sz="1000" spc="-1" strike="noStrike">
                  <a:solidFill>
                    <a:srgbClr val="003366"/>
                  </a:solidFill>
                  <a:latin typeface="Times New Roman"/>
                </a:rPr>
                <a:t>B2</a:t>
              </a:r>
              <a:r>
                <a:rPr b="0" lang="en-US" sz="1800" spc="-1" strike="noStrike">
                  <a:solidFill>
                    <a:srgbClr val="003366"/>
                  </a:solidFill>
                  <a:latin typeface="Times New Roman"/>
                </a:rPr>
                <a:t>&lt;N*T</a:t>
              </a:r>
              <a:r>
                <a:rPr b="0" lang="en-US" sz="10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46240" y="5723640"/>
              <a:ext cx="1821240" cy="52452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cene change occu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At frame number t+2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838840" y="4224600"/>
              <a:ext cx="1821240" cy="52416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cene change occu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At frame number t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4280" y="3550320"/>
              <a:ext cx="1456920" cy="37440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T = t + 3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57360" y="2350800"/>
              <a:ext cx="1311120" cy="1049040"/>
            </a:xfrm>
            <a:prstGeom prst="flowChartDecision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T &gt; total no.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Of fram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38840" y="4974120"/>
              <a:ext cx="1821240" cy="524520"/>
            </a:xfrm>
            <a:prstGeom prst="rect">
              <a:avLst/>
            </a:prstGeom>
            <a:solidFill>
              <a:srgbClr val="cccc99"/>
            </a:solidFill>
            <a:ln cap="sq"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cene change occur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At frame number t+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cxnSp>
          <p:nvCxnSpPr>
            <p:cNvPr id="464" name=""/>
            <p:cNvCxnSpPr>
              <a:stCxn id="453" idx="2"/>
              <a:endCxn id="455" idx="0"/>
            </p:cNvCxnSpPr>
            <p:nvPr/>
          </p:nvCxnSpPr>
          <p:spPr>
            <a:xfrm>
              <a:off x="2815200" y="2125800"/>
              <a:ext cx="1080" cy="300600"/>
            </a:xfrm>
            <a:prstGeom prst="straightConnector1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65" name=""/>
            <p:cNvCxnSpPr>
              <a:stCxn id="462" idx="0"/>
              <a:endCxn id="454" idx="2"/>
            </p:cNvCxnSpPr>
            <p:nvPr/>
          </p:nvCxnSpPr>
          <p:spPr>
            <a:xfrm flipV="1">
              <a:off x="6712560" y="2125800"/>
              <a:ext cx="1080" cy="225360"/>
            </a:xfrm>
            <a:prstGeom prst="straightConnector1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66" name=""/>
            <p:cNvCxnSpPr>
              <a:stCxn id="455" idx="2"/>
              <a:endCxn id="456" idx="0"/>
            </p:cNvCxnSpPr>
            <p:nvPr/>
          </p:nvCxnSpPr>
          <p:spPr>
            <a:xfrm flipH="1">
              <a:off x="2560320" y="3025080"/>
              <a:ext cx="255600" cy="300600"/>
            </a:xfrm>
            <a:prstGeom prst="straightConnector1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67" name=""/>
            <p:cNvCxnSpPr>
              <a:stCxn id="456" idx="3"/>
              <a:endCxn id="461" idx="1"/>
            </p:cNvCxnSpPr>
            <p:nvPr/>
          </p:nvCxnSpPr>
          <p:spPr>
            <a:xfrm flipV="1">
              <a:off x="3215880" y="3736800"/>
              <a:ext cx="2768760" cy="112680"/>
            </a:xfrm>
            <a:prstGeom prst="straightConnector1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68" name=""/>
            <p:cNvCxnSpPr>
              <a:stCxn id="457" idx="3"/>
              <a:endCxn id="460" idx="1"/>
            </p:cNvCxnSpPr>
            <p:nvPr/>
          </p:nvCxnSpPr>
          <p:spPr>
            <a:xfrm>
              <a:off x="4163040" y="4449600"/>
              <a:ext cx="1675800" cy="38160"/>
            </a:xfrm>
            <a:prstGeom prst="straightConnector1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69" name=""/>
            <p:cNvCxnSpPr>
              <a:stCxn id="458" idx="3"/>
              <a:endCxn id="463" idx="1"/>
            </p:cNvCxnSpPr>
            <p:nvPr/>
          </p:nvCxnSpPr>
          <p:spPr>
            <a:xfrm flipV="1">
              <a:off x="5037120" y="5235840"/>
              <a:ext cx="801720" cy="38160"/>
            </a:xfrm>
            <a:prstGeom prst="straightConnector1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70" name=""/>
            <p:cNvCxnSpPr>
              <a:stCxn id="459" idx="3"/>
              <a:endCxn id="461" idx="3"/>
            </p:cNvCxnSpPr>
            <p:nvPr/>
          </p:nvCxnSpPr>
          <p:spPr>
            <a:xfrm flipV="1">
              <a:off x="6567480" y="3736800"/>
              <a:ext cx="874800" cy="2248920"/>
            </a:xfrm>
            <a:prstGeom prst="bentConnector3">
              <a:avLst>
                <a:gd name="adj1" fmla="val 227912"/>
              </a:avLst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71" name=""/>
            <p:cNvCxnSpPr>
              <a:stCxn id="456" idx="2"/>
              <a:endCxn id="457" idx="1"/>
            </p:cNvCxnSpPr>
            <p:nvPr/>
          </p:nvCxnSpPr>
          <p:spPr>
            <a:xfrm flipH="1" rot="16200000">
              <a:off x="2667960" y="4266000"/>
              <a:ext cx="75600" cy="291960"/>
            </a:xfrm>
            <a:prstGeom prst="bentConnector2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72" name=""/>
            <p:cNvCxnSpPr>
              <a:stCxn id="457" idx="2"/>
              <a:endCxn id="458" idx="1"/>
            </p:cNvCxnSpPr>
            <p:nvPr/>
          </p:nvCxnSpPr>
          <p:spPr>
            <a:xfrm flipH="1" rot="16200000">
              <a:off x="3466080" y="5014440"/>
              <a:ext cx="300600" cy="219240"/>
            </a:xfrm>
            <a:prstGeom prst="bentConnector2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73" name=""/>
            <p:cNvCxnSpPr>
              <a:stCxn id="458" idx="2"/>
              <a:endCxn id="459" idx="1"/>
            </p:cNvCxnSpPr>
            <p:nvPr/>
          </p:nvCxnSpPr>
          <p:spPr>
            <a:xfrm flipH="1" rot="16200000">
              <a:off x="4469400" y="5709960"/>
              <a:ext cx="187920" cy="364680"/>
            </a:xfrm>
            <a:prstGeom prst="bentConnector2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74" name=""/>
            <p:cNvCxnSpPr>
              <a:stCxn id="460" idx="0"/>
              <a:endCxn id="461" idx="2"/>
            </p:cNvCxnSpPr>
            <p:nvPr/>
          </p:nvCxnSpPr>
          <p:spPr>
            <a:xfrm flipH="1" flipV="1">
              <a:off x="6712200" y="3924000"/>
              <a:ext cx="37080" cy="300600"/>
            </a:xfrm>
            <a:prstGeom prst="straightConnector1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75" name=""/>
            <p:cNvCxnSpPr>
              <a:stCxn id="461" idx="0"/>
              <a:endCxn id="462" idx="2"/>
            </p:cNvCxnSpPr>
            <p:nvPr/>
          </p:nvCxnSpPr>
          <p:spPr>
            <a:xfrm flipV="1">
              <a:off x="6712560" y="3399480"/>
              <a:ext cx="1080" cy="150840"/>
            </a:xfrm>
            <a:prstGeom prst="straightConnector1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cxnSp>
          <p:nvCxnSpPr>
            <p:cNvPr id="476" name=""/>
            <p:cNvCxnSpPr>
              <a:stCxn id="462" idx="1"/>
              <a:endCxn id="456" idx="0"/>
            </p:cNvCxnSpPr>
            <p:nvPr/>
          </p:nvCxnSpPr>
          <p:spPr>
            <a:xfrm flipH="1">
              <a:off x="2559960" y="2875320"/>
              <a:ext cx="3497400" cy="450360"/>
            </a:xfrm>
            <a:prstGeom prst="straightConnector1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</p:cxnSp>
        <p:sp>
          <p:nvSpPr>
            <p:cNvPr id="477" name=""/>
            <p:cNvSpPr/>
            <p:nvPr/>
          </p:nvSpPr>
          <p:spPr>
            <a:xfrm>
              <a:off x="7660080" y="5274000"/>
              <a:ext cx="874080" cy="0"/>
            </a:xfrm>
            <a:prstGeom prst="line">
              <a:avLst/>
            </a:prstGeom>
            <a:ln cap="sq" w="12600">
              <a:solidFill>
                <a:srgbClr val="0033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693400" y="2619360"/>
              <a:ext cx="36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43160" y="3550320"/>
              <a:ext cx="36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90320" y="5767200"/>
              <a:ext cx="36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90240" y="4974120"/>
              <a:ext cx="3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90320" y="4193280"/>
              <a:ext cx="36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85800" y="4419720"/>
            <a:ext cx="22096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imes New Roman"/>
              </a:rPr>
              <a:t>t : the frame numbe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336600"/>
                </a:solidFill>
                <a:latin typeface="Times New Roman"/>
              </a:rPr>
              <a:t>FB</a:t>
            </a:r>
            <a:r>
              <a:rPr b="0" lang="en-US" sz="1800" spc="-1" strike="noStrike">
                <a:solidFill>
                  <a:srgbClr val="336600"/>
                </a:solidFill>
                <a:latin typeface="Times New Roman"/>
              </a:rPr>
              <a:t> = 5%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3366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336600"/>
                </a:solidFill>
                <a:latin typeface="Times New Roman"/>
              </a:rPr>
              <a:t> = 60%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Times New Roman"/>
              </a:rPr>
              <a:t>N : the number of total pix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4E66-993A-43A8-A793-1076FE077465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FD858-F748-4691-B86C-16A83F1EED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umber of interpolated MB against B1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543800" cy="43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9F0-F633-4FBA-90C9-B4E86A46397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A9B13-B8DB-4411-8324-F38E570020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umber of forward and backward MB against B1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rcRect l="1176" t="1729" r="1176" b="3101"/>
          <a:stretch/>
        </p:blipFill>
        <p:spPr>
          <a:xfrm>
            <a:off x="914400" y="1752480"/>
            <a:ext cx="6324480" cy="4191120"/>
          </a:xfrm>
          <a:prstGeom prst="rect">
            <a:avLst/>
          </a:prstGeom>
          <a:ln w="0">
            <a:noFill/>
          </a:ln>
        </p:spPr>
      </p:pic>
      <p:pic>
        <p:nvPicPr>
          <p:cNvPr id="490" name="a1" descr=""/>
          <p:cNvPicPr/>
          <p:nvPr/>
        </p:nvPicPr>
        <p:blipFill>
          <a:blip r:embed="rId2"/>
          <a:stretch/>
        </p:blipFill>
        <p:spPr>
          <a:xfrm>
            <a:off x="1219320" y="1809720"/>
            <a:ext cx="5867280" cy="41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5F2-016A-48C4-907F-9DE6ACA6E41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46F8A-10CD-49A8-A5A8-D31853E3B9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umber of forward and backward MB against B2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rcRect l="1173" t="1729" r="1173" b="1161"/>
          <a:stretch/>
        </p:blipFill>
        <p:spPr>
          <a:xfrm>
            <a:off x="914400" y="1752480"/>
            <a:ext cx="6324480" cy="4267440"/>
          </a:xfrm>
          <a:prstGeom prst="rect">
            <a:avLst/>
          </a:prstGeom>
          <a:ln w="0">
            <a:noFill/>
          </a:ln>
        </p:spPr>
      </p:pic>
      <p:pic>
        <p:nvPicPr>
          <p:cNvPr id="494" name="a2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5937120" cy="41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975-F13E-43AB-8B91-BCC37FEF03C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39F30-1F0A-42CE-ADD3-3F614B336E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Resul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cene detec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1(B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, 36(B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, 50(B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, 81(B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, 97(P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gorithm is very effici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liminates cumbersome variance calculations or partial decompression of the compressed data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t can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un in real-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B5C-02E5-439B-ACAD-F9AA18DC9DB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C61A9-2C32-47B3-90E6-F84314E3C2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mpressed-domai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radual transi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otion-based appro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6622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1000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67B-BE08-4E6F-A7D3-426E0FA3CFF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822FA-1B67-4172-B331-2D362F413A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tion-based approa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G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tter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3962520" cy="12254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924360" cy="471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315-4D60-48FC-9C9B-6B4E3B36C62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7ABA12-EAEC-4A16-A72E-6DB41235C3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tion-based approa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:Gradual Transi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4332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172200" cy="39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03BA-6888-4E0F-AB77-B0E84DA2930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B8390-E8D0-4EC5-8214-D1FBA01416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Experimen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ZHANG, H. J. :’Automatic partitioning of full-motion video’, Multimedia System, 1993, 1, (1), pp.10-28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7-11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廣告系列＼集集秋之戀</a:t>
            </a:r>
            <a:r>
              <a:rPr b="0" lang="zh-TW" sz="2800" spc="-1" strike="noStrike">
                <a:solidFill>
                  <a:srgbClr val="003366"/>
                </a:solidFill>
                <a:latin typeface="標楷體"/>
                <a:ea typeface="標楷體"/>
              </a:rPr>
              <a:t>.mpg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DCC-A0DB-4720-98EE-C738D37EDE9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DEF51-264E-45E3-8CD2-D7A8CEB58A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ideo structur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Uncompress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Raw data  ( YUV , RGB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 can access the value for every single pixel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ress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PEG system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CT,  GOP(I/P/B-fram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vert the frame or find the correlation out following the structure 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E93-DA77-4236-B432-65920BDC78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798B4-6872-485A-B928-BEEC44D93E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rvey on scene chan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 video Data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mprovement fro VOD syste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tion on wire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E7B-96FA-4A63-A2DA-B1B001CB91A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6E4AF-3868-401B-96D3-54BD5B1CA8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ncompressed-domai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dden(abrupt)transi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ixel-based appro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lock-based appro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istogram-based algorith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eature-based algorith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21F3-735C-41B1-9F60-B635C322074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AF115-F8CE-4A99-803E-596A3E9BFA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ixel-based approa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mpare the difference in the intensity value of corresponding pixel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gorithm counts the number of pixels that have chang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 sudden transition is declared if the ratio exceeds a certain threshol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ail in some situ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amera mov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ast-moving objec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FD4-6D89-4D94-8773-F2911938521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3BA21-4AC2-4257-8AE1-9189726F01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Times New Roman"/>
              </a:rPr>
              <a:t>The likelihood ratio approach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The frames are subdivided into block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The number of blocks for which exceeds a certain threshold are counted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If this number exceeds a certain value, a scene change is declare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It increases the </a:t>
            </a:r>
            <a:r>
              <a:rPr b="0" lang="zh-TW" sz="2800" spc="-1" strike="noStrike">
                <a:solidFill>
                  <a:srgbClr val="800000"/>
                </a:solidFill>
                <a:latin typeface="Times New Roman"/>
              </a:rPr>
              <a:t>tolerance</a:t>
            </a: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 to noise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Times New Roman"/>
              </a:rPr>
              <a:t>It fails in different frames with the same density function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004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590840" y="2217600"/>
                <a:ext cx="34858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/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638680" y="2133720"/>
            <a:ext cx="3353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μmean intensity valu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σvariance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D67-CADC-44F7-94ED-06385F149B4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B06C7-F382-4724-89E9-1F8CEBC977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istogram-based approach 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istogram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e number of pixels belong to each gray leve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etter than pixel-based appro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wo frames whose backgrounds differ little and which have the same amount of object motion have almost the sam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t fails in the video with large lighting chang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676520" y="2590920"/>
                <a:ext cx="2438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G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506-CCE7-46FA-84D8-DC2DFD2EAD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9523F-926D-4830-857D-F4AEDD300E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istogram-based approach 2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16002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Using R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標楷體"/>
              </a:rPr>
              <a:t>Solving fro Zooming and camera mov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標楷體"/>
                <a:ea typeface="標楷體"/>
              </a:rPr>
              <a:t>A Frame is divided into several non-overlapped are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標楷體"/>
                <a:ea typeface="標楷體"/>
              </a:rPr>
              <a:t>If,there are too many high-rate area , it has Scene Chang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94E-86E2-483B-954E-89E4441666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51A8A-DB50-4CEB-AB69-26C61B51E0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03:37:57Z</dcterms:created>
  <dc:creator>balin</dc:creator>
  <dc:description/>
  <dc:language>en-US</dc:language>
  <cp:lastModifiedBy>Balin</cp:lastModifiedBy>
  <dcterms:modified xsi:type="dcterms:W3CDTF">2003-02-15T16:00:30Z</dcterms:modified>
  <cp:revision>128</cp:revision>
  <dc:subject/>
  <dc:title>Scene Change Detection Algorithm for Content-based Video Indexing and Retrieval</dc:title>
</cp:coreProperties>
</file>